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1038-BEB6-4625-B542-81A6A078F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418-847E-4AFF-BA61-790CC8C3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4D5-BBEE-421A-9174-7867555C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B505C-8805-4D0E-8239-ABC00D74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366EC-1BAD-445B-B99C-966FDE8D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39F20-BC8B-489D-A659-A5CF0BD3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E2D02-DB31-4B97-9CF7-CD117CF8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1BCBA-ECFF-4751-8938-335C2834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B71A8-9EBE-4863-BACB-551C8DA2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52B0C-703C-4076-B265-2F302F03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6AB40-1AA6-432B-A12B-655364C2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FDE37-C7C2-4039-9501-5E7D090F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22335-D69F-4B66-AC66-F4DC0CB3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35A-80EB-4A57-82B8-C4D649C2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9CA57-470C-4CE4-8346-712CF8D8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E87DA-049E-4451-AC9B-6036154C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53CD1-83BD-42BE-B8ED-BE58832E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876DA-6D47-4186-B837-674B1AAE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F3872-ED58-4688-A22A-6891D1F1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7270A-8A13-41E7-B0CC-708CC86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8E951-ECC9-49AF-9364-44F2B81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6BF13-FABF-44B3-8532-B3C75734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5175D-2D09-4274-B92B-0026E02C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C9672-AB44-4373-8E6A-B9FE77AD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3DB-552E-4C8F-991F-89B8552A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305C2-BA29-46C5-82D7-1AE6E0A4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D65F5-B2BF-403F-8BAB-6B6F21C8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96FD8-BE16-4F0C-813D-9EE85099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CF03F-6B59-4582-87EE-7C721E16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4E0A8-3D1A-4165-A58E-B1C49E4C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B1758-5D59-48DA-9403-DEF481B8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F6CED-7915-4BE6-9614-7FD1AEFF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5C5BF-EB5A-49F7-9CB0-8DA9E51E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9A7DB-57E2-4DEE-90E9-B34B158C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57C18-E94C-4196-A657-1914266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4C92-A1FD-46C8-96F5-C6558AE2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C9EB4-1FC1-4D7E-94C9-9241B779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4D4E2-1F3D-49B6-B95A-B444EAC5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BCA7D-10AF-4567-8950-65F562EC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8C0BD-D9AC-4BB9-AC98-1B22F1B7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B283F-574F-48EF-9C9A-86909B77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B07D8-07F2-4D16-B212-AE149302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58BB0-5C85-4410-8C72-62FA8E79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0C30D-7CA1-4E5D-AD13-8B55EC88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F28EE-2922-4266-88E3-AAFD2EE2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219A1-C6AF-4A47-8938-3113C65D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9EB8-8267-48A4-BD61-030E36FA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D7C0C-6AA9-400D-9DA2-1005106E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A879C-2502-4CCD-B683-CFA63527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4E273-724D-4336-9241-6B9819A3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51CCB-8A35-4154-AB71-AE9D9A02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6B644-A73E-4DC9-8C9B-DE58D860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4C5BE-FB45-48F1-B390-0B10AF20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528C1-F098-4FB9-B5EC-72E85360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6656B-371E-43F1-9B81-F20B6C8F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E8DAF-D1E5-4297-A4F7-F42C6496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2CA47-A098-4EB3-8B3F-7E2A87DC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710D-F261-4DF2-B972-800F0050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5DB05-1EAB-4E59-8038-29BEC3C2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BE0D1-0E0B-4C65-98D0-FC2C916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A409A-DE33-424B-B0CA-092893C3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EFCFD-51F8-418E-90BC-3CD4CA31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69763-E667-4751-A6AD-0EC736A2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CE38B-EA3F-4D2F-91FD-11E63BE3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8DCEE-C98B-4DE6-BE59-6BC67F14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63F7A-246D-4C92-B9EE-077BD8AC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C80EDC-B9FA-4135-A1DD-6101FDFA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083DF-568A-4EAD-9077-F2FEA793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7213-360E-4DF1-9792-2C3951EF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158F4-165E-4754-893E-ADD198CE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4F592-1A18-4F71-A317-739CA69B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64354-5D0F-4CBE-A432-27718BEE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B83C6-DF0D-4EA7-B318-583BE435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FE901-01D6-4BB4-84E8-BAEF8C00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8D4A5-957D-46EC-B0E6-871CBF7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5DC4F9-B81E-43F5-83AE-B2F8F613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DA1E7-74F2-423F-A0CA-FD8D40BE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A93FB-4E15-4C65-A624-6556152C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73B5F-6F86-45D2-9E12-701F052E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EC6D-FE18-453B-BC93-6679452F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8CED5-8B57-49CD-92DA-ED7FA711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465BE-7DD0-43FF-B52B-AA27F9DA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5D02F4-2224-41B8-937D-84BBCE60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A41B6-F631-4C21-ADAC-C138FE1F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EF7B2-818F-422B-9F4D-27A68D94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C1D48-DBBD-4ABC-B17B-BA200506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EE4F0-AC30-4AEC-B933-B8561584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54C69-099C-4F85-8BCA-5948FAF1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442EA-808C-47EC-AF63-8293EAC2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6EE66-CCAF-41A5-8E92-4D3A8F34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D8AA-6FF4-4A99-8EA6-0F8E7EEC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724407-DB13-482B-A559-0E2354F3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2D9E7-A126-45E7-BEA4-427CAD65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459C86-547F-4328-B42D-6FF984D4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EB6AB-7E4C-43F2-BA39-1F8EF959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9B9B2F-53EA-4B49-8EF9-690C7DFC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DB50E1-D736-4AF8-BAE2-CCD58069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E58C5-A027-4252-B915-5045BE6E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DCAAE-1291-4564-935D-C5B62C89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14067-6D02-4D39-9880-01DA0F68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CCC65-AB2B-4E38-AB9F-5EF94D7E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AED4-062E-4929-9BFE-F0DD46F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1B342-C3EA-45E5-BD97-F4DE6A86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04818-2156-47EE-A92E-AECD99EB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2F6E5-175C-4D1D-A423-21437E09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609C0-1942-4CAD-89A6-E8753D6A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BA121-90A9-47A5-BF75-CCC61E43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6FA19-0A2D-4C16-A29B-350E6F1D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CF0E18-754E-4F0A-972D-EFBEE987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26115-A0DA-4C6F-88B9-2BF780B9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7448BC-5298-4510-BB2B-47554A2A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1EC57B-D2AE-449D-A71A-F57E5377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DF8-A346-49CD-B876-C9CA376F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5399-78DE-404D-ADE3-97AF164F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EC8AC-FFE9-46D0-96D7-9E093488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D192A-6ED5-4BE6-91EE-122428A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20823-B8DF-49F7-A5CA-24469733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12D67-AD5D-4B2C-A793-3F669BB4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8F874-C0FB-402B-A4D6-51B1C295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B3D44-2D55-48FB-94DB-FA39B367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B4295-7D13-47E6-95F5-338F9BEF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64C13E-2091-4FC9-8568-6812687A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8960D-D82A-4BB5-AE50-C1175ACC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B61F0-8077-4A80-AD89-B6B4D98F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46A5-F78A-443D-A04E-C4D64657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8BB0FB-80C7-4AD0-BEF0-C7D421DF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F3EBDE-1AE5-4760-A99C-6E56805B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E71505-C24A-43A9-A2A6-CA9FE1A5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9995FB-7598-47CF-BEE1-4C1F9AB8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FDF438-A27A-467B-B7E5-0D2AF209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BB164-E117-47BE-89A4-2722D6D4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AD5FA7-AF67-475B-9D90-CF2C5561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D43C25-C412-4FAF-B963-97865464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367C0-505F-43D3-99A7-5A52B97B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2B1D13-8393-4565-8E24-33464B5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D7A1-5DEC-4B2C-B256-D8AC07BD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9D5017-8D90-4621-B52A-AAD4C93D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2F7ABA-DA6F-4DD7-8C93-824F1A3B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46D82F-39FB-4AFC-98FD-02915F12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985EC2-FC7C-465D-81AD-8DC70F3E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571D82-861C-4AB3-BB85-D50093AB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B5CC7E-D285-43AC-B8B2-C7BE31E3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1DFA5-6031-4FAC-A0BD-08C6959C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8425DB-F534-4685-BAFB-557AE67D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7705A6-D6E2-4B14-BFE3-11711654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D456DE-C69E-476A-B59B-0023C866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D173-514E-4CB0-B355-B58F68EE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775AB9-DBE2-4C67-848C-0B5BAB84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5249DA-1C09-4500-B0C6-2FBFD805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C30991-7C68-4FCD-8DB1-EB85D307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09E8A-0CE2-4098-8687-DB7B388E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4F99D7-4DB8-4DBA-BADA-3ECB3804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A49D6B-5AE3-4911-95A4-DB516D8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EFB1D3-2774-4F07-85DC-9819E27C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2C1753-530A-4A4E-880A-DB71A590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4B632-EEC1-42F7-9901-FA91789D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BC2BE0-2EE1-439D-8D75-D8D08A9B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FAF1-17CA-4392-9E49-324F74F0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09567C-625D-4BCC-92D9-22B45C02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EF046F-06D4-4076-890A-1BFF4234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570701-2559-423D-AF4C-F6C46003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30431C-A439-4FE7-B48A-341B1B93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F404F2-D78E-4229-B4B5-8BF356D9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209926-AC21-4E62-ADDF-75259429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A10327-4291-44AA-9338-153EBE6C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86F947-66A6-465F-BF54-97F5139D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CA5331-6722-4E0B-8684-22CB022B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8997C-4428-4378-B290-17492FD1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CA1F-70D1-4BBF-914B-896185A1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30AD9-BA0A-4324-B7A5-48F98383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26E319-EEC0-4D66-8357-4A1121FA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EF4CA0-37B0-42D0-A0E0-DF618C56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CBF661-6E45-4258-957D-54070772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E9EC86-46C5-439F-B94A-A51F32E3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19B632-F126-4E8E-BA33-7BD748EB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48E541-60A8-4428-9BAD-8B2EEDD9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23C6F1-6D3F-486C-B971-1FBA56C9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DD1925-1BC0-4C1A-8179-C3037F24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58A4EF-1E7E-49E0-9412-F90E908C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595DA-7486-4094-AD2D-CFFF742B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E416F7-3068-488C-96EC-02CC5911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1996A9-4CD3-4AB4-9DDA-218992B5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9B0E34-0E98-4611-BA08-1360F582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556017-AA31-4FC9-AA46-A7FBC9D2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716BF4-36F5-4853-B276-448C20F0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630347-A21A-4FBA-9422-9F3E283A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1E2B7C-7E6A-457C-AD15-21C02B74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1D5B07-BA5F-43B9-9017-3CDC720E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AE68AA-D03C-46E8-9279-6C56A439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485215-F589-415E-8EF1-3923E578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BF9C7-180C-4B5F-AB45-23802962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4D8B8C-7A0F-4F5F-B505-608B4D7F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201524-8EE3-49DA-B543-07FA9D00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82E6B5-3A74-4670-9BF2-97FFB565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C3E6E8-FF46-438A-8E2E-6C8F7774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95658A-62EB-40EF-AB94-6B071D20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D04DCB-FA6C-49CE-980B-995C7E6D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B29806-7465-46E5-AE79-75726BDB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42998B-F2BC-4025-8DA6-849C51A6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41D095-5B8E-4F10-875B-83A7A3B5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784C7F-3C0F-4EF4-943C-C3C54CC8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44908-833C-47EE-B2AE-91AB9F68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CC26E6-4FC2-4BEE-8A21-31F710E0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A963BB-F5D7-42AB-B13D-C0285005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521143-63BF-4BF3-9E6D-4A5B4F37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3BECAC-5478-4BE9-B97E-5A77E33E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641AA4-61CA-4DCB-936B-EF8A7309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2CC90D-76AE-4BF2-9FDE-4F2383A3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D2E87F-9224-47CE-89BD-B857E7F3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2539BF-E8D8-454A-9741-2A2E1CCE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2A548F-4861-4BF0-8331-4D79B16C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26FCC9-26EE-4887-8DF2-FEE1FF5D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2DA9-155B-4F01-87F6-F472A836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610787-E6EC-4389-AC2E-0E8AF64B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FA7519-93CF-486F-B987-7A061146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54E434-2DB3-4383-ADB8-54216E5D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5CE6A6-4D18-451E-87A3-49391AEE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29C58F-DEE7-4F3A-B8FD-8C94FBCD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BA738C-94C1-4FEF-BFD6-86D61856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B47546-612F-4E00-AA21-593AC991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CA3E42-4F6C-4349-A1DE-3090165E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F53B5C-B767-493D-8835-3061C9BA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6F319B-70B3-439C-94C5-7C6A4DAA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6C9-6B43-4FBF-B83D-7204B206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DBF1-1E46-4454-BA9F-5C468911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2DA22E-76BD-4EC5-8248-EA906EA4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22EEAA-72AB-4002-9C23-5164BA88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6CF26A-13AE-4469-BB95-1DCFC616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C4B391-7F50-4FA3-BAA4-E664150D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AFFAA7-8308-4391-AB61-A11B0ACA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BD38CB-004E-4ED7-AF08-3082E982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750331-78B8-479A-BB43-EC254204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E3B4F6-BDA3-4D74-8357-091F7F67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013BCA-A3EF-4066-BA5F-843B2B71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756E5B-8552-4DBF-B072-DB81D8F0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8ACA-825A-4301-9785-19EA1227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4081F8-DF29-46B2-BD8F-F840AE10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13D786-DEB3-476C-8688-8A962711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44F70C-9CB6-4A87-8146-2320F6DB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7431DC-D5DD-45A3-B270-B13F5F00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0E4855-152C-4F73-BA1F-60D7D70D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85E155-8D3E-4CE8-884C-B23EBC07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910B1B-AFD0-4470-9AB7-06519205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2C71B7-F0DD-4EB1-9E8F-F35688B4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04CF29-20F6-4595-9F0E-5F462989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3C8020-E58F-4826-8CA4-2484454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9F0CC-3A67-4612-BA00-49C3D693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9621B8-AC79-428C-9C1F-6158B438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7E7D60-30F0-4C56-BA3E-FDC7CF7B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2262FA-9158-4A1C-BA50-6276F2D6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5E44EF-6A5F-4ABF-96A1-A4EE3F4E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71DDE3-FEAE-4915-9ABB-FCF6C8B2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DD86C8-57E7-4893-B317-B6B83DFD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1E6EFF-32B8-45DB-AC81-E7449507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D73DD8-A19E-479E-9928-368069C7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CE4457-167E-4A30-9A94-9FA82ADA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2753CC-9AF9-434D-BD33-57985F85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A142-A967-423E-9580-19F133E9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9A9B1E-7A83-44A0-A3AB-57E5122A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E56865-78B3-4AAA-8A39-D4B16D05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351C90-3294-497B-8588-1EEC6030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A4A4BB-3153-449F-9C6A-487F8AAD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984534-4734-4A4B-AA91-7CFECF02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160AAB-0CA2-46C5-8419-59DFE907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6B0E60-C70D-4395-868C-E0147D5F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8C68DFA-9402-4E54-B6F5-57320E01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F5492BC-FA56-4923-A304-CCCAB14C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472537E-AB73-40CE-968C-36E4F569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A2F89-E998-4291-A593-F7A99242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A60CBA5-C06C-492F-A7CC-C81A45DE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18168D9-454C-4D2F-8246-BA02AB0F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A0F0B6C-D3F2-4AEA-9809-5218C411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06FBDD8-BA20-491E-84FB-48EAC3FB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693142D-7F2D-4506-A4BD-5E5214EE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024FE3F-C558-4882-BA03-CEFABAB3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E979489-6A1B-4E31-B973-4085FC01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A2BFA94-EF8E-428F-9F6B-55735F7A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11F2A66-8FDB-4B67-8DB3-955B6141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C2117F-8AD3-40EB-8A55-5E000F96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4A20-BD83-400E-A899-1633B230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BFAA0E-1022-4F81-9C61-4DE91DB8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E3E9CE-0FF9-4C52-8EF1-C6A23F6B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963724-E603-4898-92BC-9B33BB1A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2A37CE-CD01-4C93-AE95-2AE7CE5D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73D724-3D81-4DB3-BA40-BA347CDB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23BBCA-1DBE-44B7-8A47-5FEE0885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F62B71-3678-4781-BE1E-E0A02965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5BC956-DDF5-4E7C-8AC5-875FCC8C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5DC68B-2C03-4FC3-B235-680B372C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687E3A-5DFA-46F4-940E-F46D716B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40C21-E1D8-48BA-9CB7-3511EA75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069FF6-63D5-4FA4-8303-4795BBC6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C31E8F-596C-4D19-A9F9-908ECC3C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6686C0-7E3F-4549-86D4-2926AE90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CD2B3B-5A58-4167-B902-459C4B8F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175C64-CA8C-4A81-B330-AD0246D4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D7D8E9-4557-48C0-BCC9-E981CAC6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9E65C5-6271-4653-93CE-42DAD806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2AFDA7-79EE-4B28-B988-9E76433A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185B4D-B32B-4843-8D04-6FA7E43A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A12059-3B71-44D2-9677-68F5DB5E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499BF6-D4A9-4EF0-86F1-F22B54DB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09CB83-5C2C-4AC3-90B1-BB8246DE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96A7E5-CF3C-452C-95E3-8F5A8F30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2D8D30-E155-4CEE-95D1-C1184BC0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3117A1-DFE0-40B1-8725-E30A402D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5F520F-2CF2-4E95-BDBF-CCC6B49B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C92A18-135F-4435-9AE5-30C797CC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8DA0F0-318B-477A-A3A3-6448B0E7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0472D8-F76F-409D-9709-729A7267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20493C-E709-47A5-9BA7-517895DE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5DF361-63D8-4652-9BD5-C9B1ACB6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44862-CAC9-42A7-83A0-AF55431C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A19049-876F-4591-94E8-EEFADC4D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3D0DB6-14FB-432A-9BA2-59A4C342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BFC37B-A085-4619-B265-7928BAE2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A36913-1F66-4714-A989-1315A545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292D6F-8575-49EF-B291-14474EE7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119358-4931-43F8-8583-03A85718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6D93DD-5565-4BC8-A64D-A60478A2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97153B-65DA-41EA-B50B-4046D56B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F0F972-0801-4620-AD53-6043876E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192EAD-AC6A-4378-AB89-64C3EC69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CD659-8F4D-4298-A44D-F8FD5B42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3CDF67-4502-4CCD-AA91-1252335A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83A03E-3543-4EDD-8EA7-172E2EE2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9D97C7-0DBF-4ED9-9C25-2CB07146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0DB843-D7BC-4A2A-80BB-CA2FC07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AB8337-F490-4437-B123-05448E5D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48FF23-A174-4313-8948-B06A2CEA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704611-07BF-405D-BD5B-AA3F979C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30E079-147B-44BC-B05A-7701D949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7E9D1F-230B-49F0-9DC3-4826FEE3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C65C69-6721-4D8A-8424-FAA9197A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11EB-0E50-499F-AA60-FC9D6189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A9B82D-5F48-47BF-8E4B-22A87852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6A631E-5E53-439B-A97E-91458CEC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866C75-6F84-436C-A426-8875B2B2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35A770-4688-480D-9A1B-D66CC45A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DFB9A2-C18E-4541-83A3-C25F2BA6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69E415-2E49-4FE8-9337-81EBCBCC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F583F0-A9D6-4E21-A742-60EEA5EB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8AE67E-1D5A-492E-A1F7-B701BBF5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CB7EFA-E8D5-42B5-8502-97BC1CDF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E61980-965D-4278-9C87-CA056E38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7FD7E10-4029-4498-8E87-05E363A4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C8484-A445-4FC0-B43C-7AA763AB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B25C66A-A8E1-4DB6-917C-9D474553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DF4CB21-E4B3-4316-AFCE-E79E2459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6040FE9-CCA8-46A0-A15F-992946B9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CB343A2-49DF-4491-888A-8E006080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6264ABD-C4BA-4A67-AD29-B8DB70AA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C497567-6732-46F6-901E-71A7446C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E77F566-1E2E-474D-867A-E5E49028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C213418-7BE6-4573-9CF3-27456FC6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BB7C8E7-7A6D-4E14-90A6-A4A7DEB0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56F82E5-A6CC-4179-A18F-F4F3349A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F3A3D-6CD0-464D-B87E-F4C05D85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8A097E2-7B7D-48C7-A891-3202FD0D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E6C091-8C74-4100-9EBF-5A739F18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872277-4AE5-471C-81B8-EFA061DF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957116-9127-4F23-8168-6BCC1A35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C77B08-9357-49D8-BE51-567EE2B0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35B0FC-BE70-44F2-87FF-F15AA915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530B91-67B3-44C1-863F-89917361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9EBFFA-3E9E-482C-BE98-0BE368CC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B06407-0CDD-4FA0-9533-D20CAAB4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356418-4C9A-4050-8428-7A942C76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6E6904-0854-40EA-B3B1-580FF8F2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9F747F-CE0F-4934-B7F6-7F5B7B6C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DBAB23-CB74-4A54-9283-4502034E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67B0C9-A899-4333-A7CE-A699FCC4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435A21-3D86-4C6D-ABD7-B7629472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DF1553-CE23-4C78-A80B-2FEF62B9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A0D1E6-2245-42F4-8449-0B6A2414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A16E61-E814-4986-8563-0F20F2A9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717CBA-9D47-4EEB-AD8E-F7A5345D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D480CE-AF7E-4AD3-AE94-270F149D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C5280E-8725-4F0C-A2E5-D13B91CE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D5F2F-446C-445A-849D-AB598289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4164A6-67C5-4BC4-A0F9-C3EEF0AA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BEB5990-2AC1-455B-9212-6C48507C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B00F32-DBCE-4D93-9780-57F01555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36C019-5ECB-4C36-A445-BFDF69C2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252043-4F4D-4E65-BDAD-3C6FE071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C816B16-1FB5-45D3-A1D0-A2F74399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463B73-3EF0-4224-9210-50A8F2E4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1D45DB-D130-4C48-AA10-1124155E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8A27ED-F1AB-4B2D-944D-956EAA1C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2E67FBC-D649-4820-A0F4-52F15539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AF4CA-C01B-460C-870F-680BDD90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EE74DF-21A1-4803-A229-4E32BF45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937B5A-89CD-404B-B15F-A0D7C086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A1F84B-6617-4569-BF75-E9DECD60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AB031F-0386-48BF-BCDB-3AF4B7B1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658E264-C548-4D51-86A3-85552917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C3C894-CF6D-43D2-B4C4-D779167F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6C500A-5724-4E02-9353-DEBE28A9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099E1C-8EB4-446B-A9CD-23AA3A5B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C870580-594A-4995-9901-2C0368D6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794BD1C-3F82-4DCF-820F-8A34F47B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855ED-5FA6-467D-A2FE-0A7D9BF1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377C235-196A-4A17-B0BF-6249FCEB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802FF49-8660-45D9-9663-20AA8877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A4C446D-146D-47D7-AAAC-D2D52559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64C8C3-3823-4C1A-A8C8-ADDDB23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4580D9-C4CF-4888-80A8-F659AC6E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5F688E-BCB0-484F-A62B-288FAD8B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9AF6A2-6755-4289-9DC5-2DB8587D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569D694-5368-467F-81E0-FC29D4A6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B06427-1E43-4418-BB20-4616607F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2DAEA6F-DEDC-4E30-9859-41176BE5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1FBF3-936E-4140-B88D-B75C88D4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C9146AE-628D-4F67-B14E-1A14C211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80CF41C-7D11-4E0C-992C-3C939F74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7A4ADE8-0EDF-4B58-ADD5-C42BC444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F86B1A6-E560-4B2D-93C4-DFDA33B3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CCDA3D-8AB4-44AB-BBF7-B9AB9702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0B0B73-BD28-4B9D-BF2E-BAE581B9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60BC408-BD2B-4697-872A-C4F11827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C5F9EA2-5821-495F-9D36-CD6CADC5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07E6DC6-64D2-4B33-8E04-9BCAF46A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AD29368-6E24-41C5-8FFE-2583F661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F2FBA-51A7-43D3-81B2-6A2DEEA3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6C53F2D-C8D0-4A16-B767-5D4737BF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DEE453-9C52-41BF-A032-D1D7819E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23A05A-EC87-4DCF-9848-DC55AAEE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F8A7FA1-6021-42A8-926A-925B7073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18DEC3-8724-4F6F-81B0-2B5FB4EC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B025C0-4BB9-4F0A-84BA-BFBBEC28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DCF1EA-47F9-40A6-9C0A-0A5F3CD0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A0728A-A1E5-40D4-8758-0ABBD041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3694450-42E5-45FA-804D-D07C87BF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6CAA50-E1CA-4B14-9FA3-423638E3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CDC4A-66C4-4073-BC4D-FD4BBFB0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D4DE1FC-9A82-45E9-9492-12A23E07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A5FF88-4DAF-417E-84B2-F41CA3B2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290D8F7-DB59-4824-83DE-A170C155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DDB6E53-C3F9-493B-BF44-45FACFD5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114BD45-5EB4-4A2E-8757-98130187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2F74502-C967-4FFC-93CF-A694E1F2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17049AC-7F6C-49CB-BB03-4C972529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9C5D0AF-488D-4608-BA4D-9C543B7A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60DCECD-CF15-428A-AA6B-6E877312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DE8588-C170-45DD-8B96-A722EBD1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A3A-1241-41BF-808D-9A1F8396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917F5-6C68-4B96-91C2-FC2854CF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1DF245B-7C5D-4B05-9418-0301D25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BA737D-DDA7-4E10-AAA0-F719201D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332F99-8ABB-4348-9B8C-095B275B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12A985-060E-4213-9C0A-8C975D13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512566E-A457-4C73-89B6-28CDEB13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3B8A64A-4202-4935-B9F9-2941CCDE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6839A58-E523-458B-8726-73B7DD99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46D206-1578-4C8A-8977-B0782579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1530663-6F10-4021-A113-978604D1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CE07436-9EAE-4A2E-AE54-D1DB8127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AE680-E305-4FF0-A911-811FACB2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9944F9-E76D-48B1-BA67-5A781BCF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95C1397-0C1A-4E05-AE88-B1E2C96B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FB7D2B2-E2DE-45EE-8613-3D54FFFC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19376C-9F23-4C08-86D7-19F3E85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1B6B5B-6EDE-44C7-8B7A-EBF9E57E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4BCAD4A-0F35-4CEE-8373-6B403854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6DD81D-93D9-48F4-9A5B-F5B1B256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97181D-36E8-400D-9F35-BD9D4181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290AA7-49EF-4396-833C-8DB1C8B5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DEE2E5-70A4-4E96-BC64-52530616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B1311-D35C-4A83-A9D3-CBDE4E63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2EBDD53-1576-47F0-AA45-D7662AB5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89EA6D4-959B-4C8E-ADFE-F8450EBC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A11B94-F40D-45ED-95B1-82FE9C12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0E66E50-ACAC-41B8-B055-CA623D9A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EB9BB8A-E98D-4503-B05B-05D322D7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FE32963-EC6B-4F04-A0C5-1109FBC9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DEAA279-91C0-4F5C-8FC8-3C23E00E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9E4971A-0683-40FC-B773-1EF844B0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E5ECAA5-6C45-4086-95E3-07E982A2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1418285-AE64-4B1D-A079-A0FA1B84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90DC9-B48A-4A68-BB59-29E875EF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1369447-05B6-48CD-8991-DAAB1F60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E7133F3-BD3B-42E9-A537-1F106523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12C7BA-1128-4E7F-B50B-27EA5ADA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1DE6EFA-1C57-435F-A9CD-B53183AF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F4D15D-5254-4E58-AC24-F1C36D77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91C9AD0-3C9B-47AC-8E75-C33132F1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B2FD4E5-B50D-4272-B0FA-A7C82285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D3ABA28-45B8-4EC8-AB86-9B84A6DD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37B1675-DA04-4E67-A076-E76DFC05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FE83183-EF07-42A7-88A8-6FC7F6C9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60019-76B4-441D-8871-0175D392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5097180-3409-4CAC-BC21-FDCAE56F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09F9F22-5E22-44E3-A271-911D2293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658248D-CE10-49AE-B4B3-629DCF89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7CBF425-7B51-44F6-B689-59208381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13E76BD-8AE2-448C-A287-27B7861A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67BBF88-E07A-4A7D-9717-E804B67F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EF1C652-6C12-481F-8147-8302149B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139E539-29BC-42DC-9F6A-5C2D56A6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5023D08-EB38-4BB7-8E21-A9844FB1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57F90D-FC56-4627-BACD-60F4011E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FC238-C95A-4568-9D85-2BC2C328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22C048A-AD89-44C8-9873-25378ECE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93D104C-8852-4110-B943-E526D692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5D7C1A-4ECD-4528-B6A2-5DFEBCDD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D8EAAD-7316-46F0-95E0-DD7209F9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C0CA26D-8B3B-4D31-83F2-9DDEE75A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443AE92-AC87-4C6C-A6AD-BC3BC8E8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B771C9B-FBCE-4EBB-B790-ABCD883C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694A20E-03EE-4FB8-9C16-BB0E7960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A8BC3FF-36F6-46B0-9D83-CEDE315F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9521D8D-7115-45E5-9DE0-49A39824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097E0-582F-4BFA-8EFE-688511A1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3E8C4CD-B5F9-47E3-B6BF-160704DD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590B52-5028-4F07-AF89-0784BB86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D6AFD73-0FEF-491F-822D-0948143C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EE65D8F-F420-45BA-A769-318C6A1E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1B56CE-FAD7-4C8E-9C46-2F2B22A9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8F02A0F-35D4-490B-98DF-19D894B0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F6C5DA0-6A97-4932-A1F7-5D8F99BC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C0A48E-22FE-4B76-821F-62264973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4E8837-1A7C-4591-BD79-41F33525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97717B8-ABB8-44DA-9F26-AAB2C0A1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169A-D38E-4482-B213-DE068BBA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428DF9C-E1B2-44B0-B93B-044B41CD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FAFE6D-1FEF-4AC2-A579-5AD0C7EE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B097BD2-1E8F-4ED6-985F-E6B19D58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1B87D7-F31F-41E3-93BE-8993BF3B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9F182EF-A37F-44AE-8A63-4E5B01BF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EDE3512-D2D9-4872-8FC7-5777D0B0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97C4B73-EAC3-4257-8527-50D481FF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697532A-EE68-44A1-BD52-55F18ED5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CD93C87-4DB8-4EC0-87FC-8ED10874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560CDFC-8EFE-4862-98F2-6E9DFF1D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22DD-06C6-4084-A852-5BE8D736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3B905EB-77CF-4B06-A99D-97F4D208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2A9058D-4C54-42CE-9853-F11E1741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AE57076-D0DF-4BDA-8645-E89182CD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2382E47-80CB-4FEC-AA83-9B85695F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22C94A9-3AA2-46B6-92CB-B8868186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EB797A4-70BF-4BF2-9C4E-F6857F70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A65B58F-8273-4A29-A5D6-61940496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6594322-B25C-4B90-99BF-4CF904F3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E49A6B2-74B1-4FAC-A547-74658B3E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F675DEB-CB46-4FAD-B278-1BFAF717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8076A-572D-46C0-A685-97A52D3E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FAB55DF-5605-47B0-9A15-17A37BCC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4CBD7C7-3ACD-41F6-B10E-7BB1AA2B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2C1E1BC-C48C-4CBB-B0AA-C0B47087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7FF6AEA-E408-418F-9F54-B7D960AF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FED4722-0E5A-4972-A503-41D1553C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FDA075A-CC52-4C3B-9EAA-3CEDD0EB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B36CC1B-7F69-4F07-9841-B0D06AE8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09AD4A7-996D-4AB6-8C3E-559CA42A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8C91AB2-7D5B-495E-B638-DB4DDBC3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FE81ED4-416E-47B7-A1EB-A2244B62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B96-429B-428E-B442-FB92F324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F4686-1CB3-49EF-BE2B-5535AF7E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453951A-9386-487E-ADCC-AB592F15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01B906F-8892-445F-A391-B50F8352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B82C767-6623-4FE9-B223-664388BE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9239E64-FA02-417E-9A26-7DD8D21C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5F218AE-A842-4A3B-920E-7C3F19BA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D33ED7A-C410-4548-90BF-3B7A0722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B949CCD-C2B3-459D-BF36-6904CDFC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732A56A-C416-46DE-AD40-016A118B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E0E6BD6-A58E-4189-8637-A45FB992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837568B-2E8C-4B85-8C47-010B83EF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28B55-82A4-4901-89AC-3AC9F68A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8C01548-3534-4E1C-96AA-A9B8E80B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8246A2E-7696-4510-A4A3-B94D9BB8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74C574B-BD4C-4912-A7F5-EFC05382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82194D1-6153-426C-952C-B576B849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54B3F4E-200A-4402-8956-D2473314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EDFFAE1-4892-4D47-9BB7-4625E2F7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9284858-104B-4966-BB1B-BCB85FFE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C8AFCAE-D0B3-4CE1-8994-37068244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86ED8A7-9543-45F6-B3E6-4408D138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6A1D074-1CBC-48A8-BBE1-72EFF8CF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4B2C4-098F-43A9-8FA5-94CD6F34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7E18363-66BF-4AF9-A864-E6BC52F6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C5E7543-65C0-4845-9945-050A09AB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9969184-595A-4B3D-B5FA-E023679E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BA43D0D-E341-4BE8-9F73-7476F458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E1798B9-727D-492C-9234-21FB15E6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647F641-D61C-4A3B-A0E9-5CF3E8BE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EBDCDAB-B0FB-4730-A6ED-7CEC318A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DAF870-5A4D-42B6-947A-4F06133B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4022CFA-D98E-4E21-9488-E75070AB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D561BE4-7E58-46DB-95E7-CF0FCE7C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F09C5-627B-4292-9525-1006962F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1A5D2A0-CB44-43F5-9FC8-519B823B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CF61C53-3D87-4DE7-9309-8229D649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45A4A96-BF97-4C3F-9BB3-C47FEA62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8DB28AE-9D90-4153-B6E6-04683B8D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9DF190C-B292-446D-B848-2A316DA1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3C59ADA-91F6-4F6A-ACD8-3DE9C48A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9EB4035-4C38-473F-AF09-9DBDD559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8ADB627-437E-46CC-B88C-65DB0328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9227842-F649-4BE7-ACF1-D33DE0A6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AB5BCF0-6D75-46A5-9243-9DD0FF63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C5E16-0E5C-427F-BA09-76EA5E9F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B13CCA0-9748-4417-8052-874E80C2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885B44-76B3-4D2F-8172-688ED62C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8D6CD84-D9B8-4546-B199-2F5F6456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C57FFEF-7C63-4007-BC1B-D4F1ECA3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C70EEE9-FDF8-4AEB-A710-972517FC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1F9190E-C232-459D-9533-3958C05B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DABF6F0-D0D7-4B73-877D-E87E64ED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C07C09D-C2EE-4D74-AAD8-0291324B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48BDD8D-E96D-4D83-83CC-8CE8F2AB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DCCBD18-878D-4303-86BC-672E7718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71549-FA14-4C82-82CA-669EB65F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1A23CE1-873A-41EE-89CB-4FED42CD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3AF7898-E2FF-4344-BA00-916B4B05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D58B561-8814-4E55-BCC3-A53E84BC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12E828F-C78C-4FF3-8DB3-08316013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5D84442-1E7F-4134-83FD-BE9CA247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F3D19CC-4A7B-49EC-A181-F18971D5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991673F-BD1F-45BB-9A37-C21F9D94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1565F53-8F2F-48DB-BC55-6D23523B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A1FE739-7D59-41BB-9354-703B02D5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1667874-EF89-4E32-AD8D-FBBD3334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16FDB-88F9-4AB5-BA60-0A3FE4C1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9B2DC8D-8060-4847-8080-B1A32FC7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F62B4E7-6181-4002-98D3-45C27D98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FCF0CCC-02FC-4EF7-8ED1-E7BC9AD2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7DA11ED-D016-4F24-91C3-58D798E3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5C7605A-F687-4AC7-B52B-8299CD41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0C78C11-EAE7-40E1-9504-6D4D7E75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102562D-63D2-4D1A-A66F-7CBC1F3A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2BB1875-FDF4-41FE-BA79-C5C18A54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9D58050-35E9-4541-B5A0-75EFEEEE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7758679-EF68-489F-9EF0-95A6965A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EA14D-E8A5-4A42-B96D-520E3CD2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0976D52-ED8C-46B7-8CDB-680E00FD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156B3CD-32CA-4045-B94F-8784F97F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BDC1054-C676-4100-B168-AD977AB9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7F1C062-6895-4A5E-9F67-0462F685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3D3AC49-CE83-4401-A15F-4F2F670C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1A7114C-6F6E-4C32-B9E2-2026054D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202D550-FDA6-41C7-B143-6D57B982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9ECBFA2-68B8-4A5E-9E38-B78945D8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721091F-52E2-4AA7-952C-8B2A2BFB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33796DC-0275-4BAB-95B6-DDDC2E94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B61FC-E5E1-4D99-8BDC-2B03B3D2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4E83E65-A6AC-4314-8CEB-9E6A7010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29B1A49-7E71-4842-8720-143B62DB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6E17607-9982-4349-872E-FCB826DB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51B9CC7-5C50-4262-BD09-F6EB5BE6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D6A6032-F555-457B-B057-C8FA9447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7F957-B1C7-4B07-ACC2-4D3F93B8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D98-0E5F-4A4F-B1B5-8FF78577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5B581-9918-4C1D-952E-B7CB5DE3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BA638-AC77-4E6D-8E95-F912513F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069AC-2D3F-422B-AF7C-D035F191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6E888C-8C85-4FD5-9A2E-219D0B50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DC34D-789A-42F7-BBDD-23723099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02D58B-A7F1-4EFD-B5ED-2D58836F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A7158-87CE-4642-86A2-F85EE4FB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93E05-8A4F-45C7-A701-2F4B950F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DBCF7-A7B6-469D-9628-AE21A8EB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8553F-2541-4B3B-A860-BA053B96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2A2-0E29-4E64-801C-4D3BC57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702B6-E3B8-4326-9933-001D53A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5CE7E-D078-480C-AEC4-A7256F9B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F1C1A-848F-4D75-BB08-D9B0CE19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123D01-F967-4B9D-90BE-AB2DF7AE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93422-007F-476A-9CAA-BADFA6F3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7A728-47B7-43D4-935F-8D8C9F6C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AE468-A2A4-4FE3-B292-A12A0E5E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156A6-9A4C-4B11-A4A0-0435E4D4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D14AA-2CF1-4C1C-8373-868D2CA6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F4F43-1719-482B-BE83-41F336C0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30F-D0E1-4E60-B704-FE71651C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83471-CCA0-4EF4-92E5-EC05077F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0A2AB-9284-4DBA-8972-3D733C49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5F14B-6E87-45B1-8741-EE0A6DD2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5CB68-5595-4BC2-94D3-1798FFCF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B26F1-CF47-4043-8A2D-8BDE56E6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3127B-4966-45D6-8DB0-CA718E10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C724E-45A7-49B1-A77A-221C902E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82804-0579-4E7A-AF3C-81C4CCC4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7593D-597C-45F1-99EB-9C6886E4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3E795-E5BA-4B10-8709-38935B3A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0687-99D8-4106-BAF4-42D9EF55A1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30BA-9D31-45BA-8798-159AA36DC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81C5-4D09-4C9E-AC2A-6CCA7CED62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ECD9-FAFA-40B6-A52B-E969ACACAC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8A29-B185-4D84-A6DC-ABF513426CE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9DCB-0A09-4E38-941B-F51232C81A5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0060-4B5D-4343-ADD0-25AE87FC9B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C734-5950-496E-86A3-DE4C1B8C52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D46B-B132-4FAD-B15C-C5F8C4E09C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33AA-256C-43FA-8D46-4C53D97DBD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E541-6E30-4D58-BA3D-DD76F785E8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D5A6-9B6F-49B6-977F-9AC87D654D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253E-295A-4B08-B15B-01509EFEBE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E3CE-07BB-4DB9-9366-3642E7AA4C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E021-88B9-4176-BF9D-67FC497B4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761A-398E-45FA-A602-4C8A5AE38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270A-5097-4864-8ADD-C8F6FA32B8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9F9B-35AC-4F51-AA09-38194961C2E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983D-384E-4A59-95C1-770C66DF2B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BA50-C89A-4F76-AF1D-BCC4B67B3E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A632-6B96-4292-8996-EDC1E78832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979D-DFD0-4750-8F28-A1D7BC5B6A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E531-3159-4845-BF9C-7760923521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F23B-3C70-472D-8935-50BFC75FC6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1495-7851-452D-8075-DA9D37DF1C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21B7-BC23-4B45-98E9-81ACFC03F1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4930-EF16-43DD-880E-22BF1078D6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6B6B-5661-4E43-9433-87B9B7638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D41F-7B93-4532-9216-61DF405AE7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B7F6-EAA7-4416-BF96-57D8D5DF34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ABE3-243E-4C2D-A4DA-F74E8FF037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9A4B-B0B2-4C8A-832C-FA134F231A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58C6-003E-470E-9951-128F98498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09C5-453C-4FBB-A201-2B7CDDFF84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3C76-A52C-45D9-B8E1-5192B7E0F72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85E9-9692-4CCE-86A0-705FE0D9BAF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C3F0-5299-4243-87D6-6B552B5D36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BE3B-8EBA-4AC3-91BA-FE2D6832D2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0E16-0C1B-4034-91AC-3FC4CEEF14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F017-C8DF-4E2A-8D88-D443C4F091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526F-68B9-4462-8DA4-9D1D04AB89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A33D-6241-411B-883E-ACD38837AD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4419-618C-4A92-B11A-902EB64C361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60AB-0697-4444-8562-5EAE38910AE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BE41-15F0-4538-AEF5-05F4EF9C8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8038-F0D6-4572-8690-5C60C3B1A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9651-11BA-44B6-91C2-2565A02AD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9D36-3D22-4DDB-AE25-06788CE4AF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2972-53C8-46C5-9A0F-74362CFE06E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A013-4541-4C4A-9F71-ED904105A8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461A-9EA5-41D9-8317-F55E7096A2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CD4E-F88B-4D9A-9B5D-DEC2F309AA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AD33-CACE-449E-8FDA-790CD21554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7A32-ACD0-4AF0-A8EC-10DA50D7F0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B7B7-9046-4E94-8708-B3168A732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3EE7-C8EC-4CBB-9AFD-F26D19D2D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CAC9-C71D-453B-9CFF-270330E66A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4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5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1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6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7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8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1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2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1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3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8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9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0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3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4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5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5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2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3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4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9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5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6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7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3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4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5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RomaK</cp:lastModifiedBy>
  <dcterms:modified xsi:type="dcterms:W3CDTF">2015-09-04T09:32:36Z</dcterms:modified>
  <cp:revision>7</cp:revision>
  <dc:subject/>
  <dc:title>Presidents of the Phillipines</dc:title>
</cp:coreProperties>
</file>